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A2C1-6230-4C7C-B98D-0BD8BDDE3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thefullwiki.org/Griffiths_experiment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 http://biology.kenyon.edu/courses/biol114/KH_lecture_images/How_DNA_works/how_DNA-wor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textbookofbacteriology.net/phage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iscovermagazine.com/2009/apr/28-next-miracle-antibiotic-could-spawn-next-super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tanford.edu/group/ccr/blog/2009/04/a_closer_look_1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orbes.com/sites/daviddisalvo/2011/11/22/whats-your-dna-wort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urpleopurple.com/inventions-and-inventors/structure-of-DN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giangleblog.wordpress.com/2011/05/02/edit-5-dna-structure-group-b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biology.lsu.edu/introbio/summer/Summer2004/1201/RF/Chapter%205%20review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dedunn.edublogs.org/2011/06/08/structure-of-dna-and-rna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phschool.com/science/biology_place/biocoach/transcription/chains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asciottichr.edu.glogster.com/ch-11-glo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800’s hypothesized the existence of a hereditary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ss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ni-tuebingen.de/ziegler/history/friedrich_miescher/friedrich_miesch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Frederick_Griff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bacteriolog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1755-8182-45A6-AF54-E915C202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EC25-F364-4948-A544-1D90F34D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2933-A1D3-421E-A6DB-1D6BDF77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9F2-4D6A-4DA1-830D-80F56941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510-B462-456A-B6FB-5E5406DA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50A9-B887-42A2-B53E-9248A41C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08F5-4C21-4138-9FD5-2D571582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3C8A-8479-42BE-8D35-89B0B3C5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594A-3AA7-455F-9C81-0662D526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80D4-B236-4269-8E3A-600C2078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B36F-BDD7-4719-85FB-43149FA8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F95D-BE09-4B8C-97E3-2F86D1CA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8614-3B30-40CF-ACFE-8E72BA54E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nalc.org/view/16375-Animation-17-A-gene-is-made-of-DNA-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437316/student_view0/chapter14/animations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nalc.org/view/15014-Franklin-s-X-ray-diffraction-explanation-of-X-ray-pattern-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dnaftb.org/dnaftb/19/concept/index.html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naftb.org/15/animation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lecular Basis of Inherit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18000" y="28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ffith experiment (192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16080" y="1981080"/>
            <a:ext cx="491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show ani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lc.org/view/16375-Animation-17-A-gene-is-made-of-DNA-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y, McLeod, McC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4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fred Hershey &amp; Martha Chase (195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 or D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with bacteriophage 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sites/0072437316/student_view0/chapter14/animations.html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648320" y="2784600"/>
            <a:ext cx="38098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07960" y="609480"/>
            <a:ext cx="632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08160" y="609480"/>
            <a:ext cx="4925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ebus Levene (1920’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d the 3 component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oxyribose sug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sphat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win Chargaff (19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DNA from different organisms and measured levels of each of the 4 nitrogenous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t. of adenine = amt. of thy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t. of cytosine = amt. of gua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klin &amp; Wilk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ray diffraction imag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ed  double helix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lc.org/view/15014-Franklin-s-X-ray-diffraction-explanation-of-X-ray-pattern-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48320" y="2120760"/>
            <a:ext cx="380988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N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 Watson &amp; Francis Crick (195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model of DNA with a double helix of 2 anti-parallel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 the Nobel Prize in 1962 (with Maurice Wilkins) for deducing the structure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dnaftb/19/concept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97000" y="609480"/>
            <a:ext cx="4950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1.5 p.45-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er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ucleot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carbon sugar (ribose or deoxy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ous bas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 group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48320" y="2533680"/>
            <a:ext cx="38098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46240" y="1981080"/>
            <a:ext cx="505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73440" y="1981080"/>
            <a:ext cx="3597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RNA Directi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25680" y="1981080"/>
            <a:ext cx="429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11 Genetic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&amp; all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ploid &amp; hapl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DNA vs. prokaryotic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m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tructure &amp; Function - A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gor Mendel (186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922480" y="1981080"/>
            <a:ext cx="329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is the Hereditary Molec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Mies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92480" y="1981080"/>
            <a:ext cx="27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drich Miescher (186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used bandages from hospitals and isolated an acidic substance with a high concentration of 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alled it “nucle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15/animatio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Griff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84400" y="1523880"/>
            <a:ext cx="332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0:16:36Z</dcterms:created>
  <dc:creator>rubina khan</dc:creator>
  <dc:description/>
  <cp:keywords/>
  <dc:language>en-US</dc:language>
  <cp:lastModifiedBy>rubina khan</cp:lastModifiedBy>
  <dcterms:modified xsi:type="dcterms:W3CDTF">2013-11-08T18:47:56Z</dcterms:modified>
  <cp:revision>124</cp:revision>
  <dc:subject/>
  <dc:title>Molecular Genetics</dc:title>
</cp:coreProperties>
</file>